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A4B-D4A5-43A9-9319-0E89D30F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BAD-8913-441E-AFDD-0AB40C19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00F-BB93-4267-AA6B-211EF800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0AA-B9D6-4A80-8DEF-30E138B2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8C6-B882-4EDC-A558-C87E5642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CF6-132D-43E0-806C-41898E39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43F-BFDE-489E-874A-B69E29F0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96D-9C38-4BE9-B62D-D91ECF02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1BB-2766-4AE9-8943-515CEF14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B50-01E5-4152-9E09-B43900FE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8E2-EA73-4EB0-A2C5-B9D34C52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3E6-6E6C-4282-8529-BB71BF7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8A9A-771D-45F6-A62D-24379DD9A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animal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brainstorm countries where they talk Spanish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revise numbers 1-3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numbers 1 to a mill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Play fling the teach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och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nov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628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3573360"/>
            <a:ext cx="11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6922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400536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2060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157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5084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2133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93080" y="5589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29242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40720" y="18900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581360"/>
            <a:ext cx="835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 y un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o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92360" y="260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3068640"/>
            <a:ext cx="82803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500" spc="-1" strike="noStrike">
                <a:solidFill>
                  <a:srgbClr val="000000"/>
                </a:solidFill>
                <a:latin typeface="Arial"/>
              </a:rPr>
              <a:t>doscientos y uno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268280"/>
            <a:ext cx="8280360" cy="131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re do they talk Spanish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581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uatro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quin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i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sete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ocho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nove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m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268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mill</a:t>
            </a:r>
            <a:r>
              <a:rPr b="1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268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00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581360"/>
            <a:ext cx="820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os millo</a:t>
            </a:r>
            <a:r>
              <a:rPr b="1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n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620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28640"/>
            <a:ext cx="15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57336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69228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40053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206064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16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5084640"/>
            <a:ext cx="21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2133720"/>
            <a:ext cx="21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37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6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5589720"/>
            <a:ext cx="21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7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92428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189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iez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vein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718080"/>
            <a:ext cx="705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veint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nco etc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60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Arial"/>
              </a:rPr>
              <a:t>BUT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i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718080"/>
            <a:ext cx="705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inta y d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60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Arial"/>
              </a:rPr>
              <a:t>BUT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581360"/>
            <a:ext cx="612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uar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581360"/>
            <a:ext cx="612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ncu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2:07:19Z</dcterms:created>
  <dc:creator>Chris Fuller</dc:creator>
  <dc:description/>
  <dc:language>en-US</dc:language>
  <cp:lastModifiedBy>cfuller</cp:lastModifiedBy>
  <dcterms:modified xsi:type="dcterms:W3CDTF">2009-06-23T11:43:51Z</dcterms:modified>
  <cp:revision>4</cp:revision>
  <dc:subject/>
  <dc:title>Slide 1</dc:title>
</cp:coreProperties>
</file>